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7.png" ContentType="image/png"/>
  <Override PartName="/ppt/media/image22.jpeg" ContentType="image/jpeg"/>
  <Override PartName="/ppt/media/image5.jpeg" ContentType="image/jpeg"/>
  <Override PartName="/ppt/media/image8.jpeg" ContentType="image/jpeg"/>
  <Override PartName="/ppt/media/image20.jpeg" ContentType="image/jpe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9.jpeg" ContentType="image/jpe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87590-661E-4C0D-9637-FEF1FE541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2E84A-FC9C-4270-BC0B-ED901D593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13532-7E2F-43DC-A790-952FD5414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BCF80-FB94-4C09-97E6-5A4D2AE49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08264-CB5B-4874-AFCA-858391D69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61F36-DC5F-4626-BED9-998953328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6B127-EA07-4BD0-8E2B-C2B426EE7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CFFA3-5794-4C13-9A0E-447C03B1E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77808-FCB3-4E05-9951-86A79DCF4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DEAF7-BAB8-4653-ABF3-92AD40E84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4D6CA-74F0-4263-8ED9-3ECD52F76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61243-61C4-4DB3-A0BA-778418BEF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3E83C-F20B-46BB-B728-A9B1A67A8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14321-79BC-46A8-A9FA-A28C9E5F6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78EFC-C5D0-4CCA-AC30-FC57F0118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F3C59-FB16-4630-80B0-EA02B5082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140AF-DF72-4015-BF86-DC18B1FC1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1906EB-9A62-4C9A-86B2-69478810B7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713F7F-FED1-4E0E-B652-A4A2935369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38F87-FC8B-40E8-B32D-392B50AF3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94D95-32B6-48D9-B072-910B5CC84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9EFA95-3EDD-48CE-87D0-D04AAC8ED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7A2E7-800E-43D5-A761-D0EC189D0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0D287-8C3B-41BC-9C91-F27BD7CE1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C0808-6554-488E-8CFF-E3F7D2140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47129-32DD-4CCD-B9A8-E1E3A0ABA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2D5A5-E8E4-4DBD-AAA1-592F68D0D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1263CA-FF6C-4391-B651-B3DF31CBB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8594FE-382C-40A6-A8CB-6F1B162B91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9B512-F669-4E6E-B5BB-350676AAA7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95D2FD-FB4F-4176-B289-F16924B8A8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6AD99-E24E-421F-9CEE-4B2459AEC7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1462C-BDAE-4CB0-B6EE-673849A22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2C667-832A-43D4-BE35-69D5567C1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C834AF-76C1-426C-823C-5C0D6398E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89723C-0527-46F8-A53C-131605C3E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94481A-5C5F-45AA-988C-B0F03258CE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D382B-5801-488E-90A9-AB0850425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14030-E997-4448-9C24-02E9B5C26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23716-0A77-4CE0-ACCC-792A90F02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5CC65E-7A0C-4065-A2F5-A469F9E68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051CA1-2803-4095-96A1-F4538E80CB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BA30AF-11BF-4307-A708-EF9E62F8BD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91C935-0E59-4101-88DA-C6FF92E4B7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4463A-698B-4AB6-8720-CA236027A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423BA5-44C5-4DE7-98A9-1022842DF8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66CAEC-9064-4D39-9BAB-157A9A68D9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639CC-3729-4007-B5CD-A4A451021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B05F3B-9D3D-4196-BEFA-3AFEF6B6A7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27D826-CB41-4417-8D0A-FEA28F725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86C19-D4B7-4698-9F33-175B6E41F2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01E09-3089-4708-8A79-C6367A967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5C656-88F2-42C2-8BBA-C398060E8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B9DBA7-013B-4A76-9AC0-B12933E7E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7DB330-E890-4E32-91FF-BE30AFE626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251A2-A8FE-4AE2-BDEB-C07B11444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9A49F6-199C-4CE2-8481-EB77AF03D1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D6DD94-DBB8-4611-A84F-7678579574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4A2AD-C8CB-445C-94F0-6B3465AA39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874F0-4866-439F-AC8A-0DA06A17A9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B0141D-9093-4CD7-9847-015B7E84B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E48555-26BE-4B08-BD94-9C3F87523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4142DB-4D86-46E8-BE99-63263EC895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77E41-D886-4BFE-88B1-2D26C0F23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54D42-BF56-49C4-A2DD-B87F50537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8DE17-E9FF-4B29-8272-F1A1778D0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0036-3348-404E-977D-BC7FC62BA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C82C87-C7C8-4466-853C-D2B07BB96C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269974-E37F-49E0-9E27-F82056D0AB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DC9854-3D2B-4D68-9843-12DF095542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9F063E-FB15-460F-83E3-B21F76A034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7A115A-9B5D-402A-B3C6-2CCDC3A4A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32F9C-3951-4BBB-BA3D-7AFAC9C9E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B59215-7162-4FF4-8D46-F65D391B4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E089F1-D307-465F-BA48-70FDC177F3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E911FE-8DF4-43B2-BCFD-6715DE443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5556FD-6CCF-4414-B798-F3E1C08BA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1BF85-0CA6-46CD-B23F-62DF214F3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C0968-9DAD-4882-AEA4-6E9C9E61D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287D6-90F5-42B2-9716-E04C41818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BE4D21-B4C1-4657-8FFD-878BE6F773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C1BE2D-C963-4CA0-A06F-DA7F4813A8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EA5F2C-C5C2-486F-B019-62D9C487DD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E8B7B9-6FF1-402E-A72F-9BCE0B7204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071156-2757-4CAA-9AD9-5CDC692967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197E9A-4AD8-49D4-9EE2-9421A882BE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C0489-09A9-40CB-B879-2F71216600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5B0DF4-D62D-46CD-BEFA-28E17C8FD9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E93C5-F47A-47D0-8049-E055B6956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13B111-8C4F-4D11-9BEF-3A4089157C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28AD7-D895-43FE-B102-0D79AD2579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DF4DE-71A7-47B5-8993-334D8B462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938E0-E179-4ABC-AB05-D889DD7531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37879-8E34-4FBC-B4FA-25E9A80EEF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5CC4B2-E085-4F49-856A-DA04F052FE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7230C0-58B8-4C43-B5C9-DDF5E2B3140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8D97-F5BD-443F-9F13-CA84BB338DD0}"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3371-6227-4AE4-ABCE-142AB706215A}"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A1AB-854A-48F6-BA46-ECB746E022B4}"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0C24-4645-497E-A2A5-62D064BCE9A1}"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60D0-1D6B-4715-83A8-5B2822BAB855}"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2E8E-A7C4-4FA3-B5D3-14535F9F49A9}"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8AE4-6249-4023-968F-62F05D1FD963}"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B714-A488-4B89-BA35-7DC6C91D6A3E}"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384200"/>
            <a:ext cx="8217000" cy="22068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aecd"/>
                </a:solidFill>
                <a:latin typeface="Lucida Sans Unicode"/>
              </a:rPr>
              <a:t>By: Sophia and Lexi</a:t>
            </a:r>
            <a:endParaRPr b="0" lang="en-US" sz="2700" spc="-1" strike="noStrike">
              <a:solidFill>
                <a:srgbClr val="000000"/>
              </a:solidFill>
              <a:latin typeface="Lucida Sans Unicode"/>
            </a:endParaRPr>
          </a:p>
        </p:txBody>
      </p:sp>
      <p:pic>
        <p:nvPicPr>
          <p:cNvPr id="372" name="Picture 2" descr="http://kookaburra.weekendcrash.com/wp-content/uploads/neuschwanstein-castle.jpg"/>
          <p:cNvPicPr/>
          <p:nvPr/>
        </p:nvPicPr>
        <p:blipFill>
          <a:blip r:embed="rId2"/>
          <a:stretch/>
        </p:blipFill>
        <p:spPr>
          <a:xfrm>
            <a:off x="285840" y="2286000"/>
            <a:ext cx="4190760" cy="288612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Content Placeholder 3" descr="lalala.jpg"/>
          <p:cNvPicPr/>
          <p:nvPr/>
        </p:nvPicPr>
        <p:blipFill>
          <a:blip r:embed="rId1"/>
          <a:srcRect l="13426" t="14083" r="20947" b="20286"/>
          <a:stretch/>
        </p:blipFill>
        <p:spPr>
          <a:xfrm>
            <a:off x="2643120" y="1785960"/>
            <a:ext cx="6286680" cy="3929040"/>
          </a:xfrm>
          <a:prstGeom prst="rect">
            <a:avLst/>
          </a:prstGeom>
          <a:ln w="0">
            <a:noFill/>
          </a:ln>
        </p:spPr>
      </p:pic>
      <p:pic>
        <p:nvPicPr>
          <p:cNvPr id="374" name="Title 2" descr=""/>
          <p:cNvPicPr/>
          <p:nvPr/>
        </p:nvPicPr>
        <p:blipFill>
          <a:blip r:embed="rId2"/>
          <a:stretch/>
        </p:blipFill>
        <p:spPr>
          <a:xfrm>
            <a:off x="195120" y="268200"/>
            <a:ext cx="8498160" cy="1158840"/>
          </a:xfrm>
          <a:prstGeom prst="rect">
            <a:avLst/>
          </a:prstGeom>
          <a:ln w="0">
            <a:noFill/>
          </a:ln>
        </p:spPr>
      </p:pic>
      <p:sp>
        <p:nvSpPr>
          <p:cNvPr id="375" name="TextBox 4"/>
          <p:cNvSpPr/>
          <p:nvPr/>
        </p:nvSpPr>
        <p:spPr>
          <a:xfrm>
            <a:off x="214200" y="1785960"/>
            <a:ext cx="2214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First of all we had to figure out how we were going to do the basic shape.</a:t>
            </a:r>
            <a:endParaRPr b="0" lang="en-US" sz="18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we had done that we had to push and pull our shape until it had taken some form to the Neuschwanstein Castle</a:t>
            </a:r>
            <a:endParaRPr b="0" lang="en-US" sz="18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2" descr=""/>
          <p:cNvPicPr/>
          <p:nvPr/>
        </p:nvPicPr>
        <p:blipFill>
          <a:blip r:embed="rId1"/>
          <a:stretch/>
        </p:blipFill>
        <p:spPr>
          <a:xfrm>
            <a:off x="195120" y="268200"/>
            <a:ext cx="8498160" cy="1158840"/>
          </a:xfrm>
          <a:prstGeom prst="rect">
            <a:avLst/>
          </a:prstGeom>
          <a:ln w="0">
            <a:noFill/>
          </a:ln>
        </p:spPr>
      </p:pic>
      <p:pic>
        <p:nvPicPr>
          <p:cNvPr id="377" name="Picture 2" descr="C:\Users\19954\AppData\Local\Microsoft\Windows\Temporary Internet Files\Content.Outlook\U56V8A3A\Our Progress.jpg"/>
          <p:cNvPicPr/>
          <p:nvPr/>
        </p:nvPicPr>
        <p:blipFill>
          <a:blip r:embed="rId2"/>
          <a:stretch/>
        </p:blipFill>
        <p:spPr>
          <a:xfrm>
            <a:off x="2357280" y="1285920"/>
            <a:ext cx="6599520" cy="4525920"/>
          </a:xfrm>
          <a:prstGeom prst="rect">
            <a:avLst/>
          </a:prstGeom>
          <a:ln w="0">
            <a:noFill/>
          </a:ln>
        </p:spPr>
      </p:pic>
      <p:sp>
        <p:nvSpPr>
          <p:cNvPr id="378" name="TextBox 6"/>
          <p:cNvSpPr/>
          <p:nvPr/>
        </p:nvSpPr>
        <p:spPr>
          <a:xfrm>
            <a:off x="0" y="1357200"/>
            <a:ext cx="2214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After we had completed the base shape we did the roof</a:t>
            </a:r>
            <a:endParaRPr b="0" lang="en-US" sz="18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We weren't sure how we could make the turret and pole look real so we got an image from 3D warehouse</a:t>
            </a:r>
            <a:endParaRPr b="0" lang="en-US" sz="18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2" descr=""/>
          <p:cNvPicPr/>
          <p:nvPr/>
        </p:nvPicPr>
        <p:blipFill>
          <a:blip r:embed="rId1"/>
          <a:stretch/>
        </p:blipFill>
        <p:spPr>
          <a:xfrm>
            <a:off x="195120" y="268200"/>
            <a:ext cx="8498160" cy="1158840"/>
          </a:xfrm>
          <a:prstGeom prst="rect">
            <a:avLst/>
          </a:prstGeom>
          <a:ln w="0">
            <a:noFill/>
          </a:ln>
        </p:spPr>
      </p:pic>
      <p:pic>
        <p:nvPicPr>
          <p:cNvPr id="380" name="Picture 1" descr="C:\Users\19954\AppData\Local\Microsoft\Windows\Temporary Internet Files\Content.Outlook\U56V8A3A\Our progress2.jpg"/>
          <p:cNvPicPr/>
          <p:nvPr/>
        </p:nvPicPr>
        <p:blipFill>
          <a:blip r:embed="rId2"/>
          <a:stretch/>
        </p:blipFill>
        <p:spPr>
          <a:xfrm>
            <a:off x="3143160" y="1285920"/>
            <a:ext cx="5835600" cy="4525920"/>
          </a:xfrm>
          <a:prstGeom prst="rect">
            <a:avLst/>
          </a:prstGeom>
          <a:ln w="0">
            <a:noFill/>
          </a:ln>
        </p:spPr>
      </p:pic>
      <p:sp>
        <p:nvSpPr>
          <p:cNvPr id="381" name="TextBox 4"/>
          <p:cNvSpPr/>
          <p:nvPr/>
        </p:nvSpPr>
        <p:spPr>
          <a:xfrm>
            <a:off x="285840" y="1428840"/>
            <a:ext cx="2428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We then had to do the roof to the other half of the building, this part we had trouble with because we couldn’t get the roof to go up after we did the line. We solved this problem </a:t>
            </a:r>
            <a:r>
              <a:rPr b="0" lang="en-US" sz="1800" spc="-1" strike="noStrike">
                <a:solidFill>
                  <a:srgbClr val="00b0f0"/>
                </a:solidFill>
                <a:latin typeface="Wingdings"/>
                <a:ea typeface="Wingdings"/>
              </a:rPr>
              <a:t></a:t>
            </a:r>
            <a:endParaRPr b="0" lang="en-US" sz="18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we had don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e roof to one part of</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e building we had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o do the roof to th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other half of the</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building and then w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o join the two roof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because they were at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different angles. Thi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as difficult becaus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e roof had to join at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wo angles</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3" name="Title 2" descr=""/>
          <p:cNvPicPr/>
          <p:nvPr/>
        </p:nvPicPr>
        <p:blipFill>
          <a:blip r:embed="rId1"/>
          <a:stretch/>
        </p:blipFill>
        <p:spPr>
          <a:xfrm>
            <a:off x="195120" y="268200"/>
            <a:ext cx="8498160" cy="1158840"/>
          </a:xfrm>
          <a:prstGeom prst="rect">
            <a:avLst/>
          </a:prstGeom>
          <a:ln w="0">
            <a:noFill/>
          </a:ln>
        </p:spPr>
      </p:pic>
      <p:pic>
        <p:nvPicPr>
          <p:cNvPr id="384" name="Picture 3" descr=""/>
          <p:cNvPicPr/>
          <p:nvPr/>
        </p:nvPicPr>
        <p:blipFill>
          <a:blip r:embed="rId2"/>
          <a:stretch/>
        </p:blipFill>
        <p:spPr>
          <a:xfrm>
            <a:off x="3143160" y="1357200"/>
            <a:ext cx="5735880" cy="35863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0" y="1643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we joined th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roof at the two different</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angles we Uploaded th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extra part to the Castl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e uploaded the windows</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o go around our castle.</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pic>
        <p:nvPicPr>
          <p:cNvPr id="387" name="Picture 2" descr="C:\Users\19954\AppData\Local\Microsoft\Windows\Temporary Internet Files\Content.Outlook\U56V8A3A\Step 5.jpg"/>
          <p:cNvPicPr/>
          <p:nvPr/>
        </p:nvPicPr>
        <p:blipFill>
          <a:blip r:embed="rId2"/>
          <a:srcRect l="7030" t="0" r="53125" b="50002"/>
          <a:stretch/>
        </p:blipFill>
        <p:spPr>
          <a:xfrm>
            <a:off x="3071880" y="1571760"/>
            <a:ext cx="5556240" cy="435744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uploading the windows</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e put in some hand drawn one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nd copy and pasted them</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hich took a while because</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e had to make sure they</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ere evenly spaced apart</a:t>
            </a:r>
            <a:endParaRPr b="0" lang="en-US" sz="1800" spc="-1" strike="noStrike">
              <a:solidFill>
                <a:srgbClr val="000000"/>
              </a:solidFill>
              <a:latin typeface="Lucida Sans Unicode"/>
            </a:endParaRPr>
          </a:p>
        </p:txBody>
      </p:sp>
      <p:pic>
        <p:nvPicPr>
          <p:cNvPr id="389" name="Title 2" descr=""/>
          <p:cNvPicPr/>
          <p:nvPr/>
        </p:nvPicPr>
        <p:blipFill>
          <a:blip r:embed="rId1"/>
          <a:stretch/>
        </p:blipFill>
        <p:spPr>
          <a:xfrm>
            <a:off x="195120" y="268200"/>
            <a:ext cx="8498160" cy="1158840"/>
          </a:xfrm>
          <a:prstGeom prst="rect">
            <a:avLst/>
          </a:prstGeom>
          <a:ln w="0">
            <a:noFill/>
          </a:ln>
        </p:spPr>
      </p:pic>
      <p:pic>
        <p:nvPicPr>
          <p:cNvPr id="390" name="Picture 3" descr="C:\Users\19954\AppData\Local\Microsoft\Windows\Temporary Internet Files\Content.Outlook\U56V8A3A\Our progress (4).jpg"/>
          <p:cNvPicPr/>
          <p:nvPr/>
        </p:nvPicPr>
        <p:blipFill>
          <a:blip r:embed="rId2"/>
          <a:srcRect l="0" t="0" r="7766" b="0"/>
          <a:stretch/>
        </p:blipFill>
        <p:spPr>
          <a:xfrm>
            <a:off x="3571920" y="2143080"/>
            <a:ext cx="5429160" cy="3678120"/>
          </a:xfrm>
          <a:prstGeom prst="rect">
            <a:avLst/>
          </a:prstGeom>
          <a:ln w="0">
            <a:noFill/>
          </a:ln>
        </p:spPr>
      </p:pic>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all our hard efforts on</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e Neuschwanstein Castle in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Germany we have finally finished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ith our castle looking lik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is ----------------------&gt;</a:t>
            </a:r>
            <a:endParaRPr b="0" lang="en-US" sz="1800" spc="-1" strike="noStrike">
              <a:solidFill>
                <a:srgbClr val="000000"/>
              </a:solidFill>
              <a:latin typeface="Lucida Sans Unicode"/>
            </a:endParaRPr>
          </a:p>
        </p:txBody>
      </p:sp>
      <p:pic>
        <p:nvPicPr>
          <p:cNvPr id="392" name="Title 2" descr=""/>
          <p:cNvPicPr/>
          <p:nvPr/>
        </p:nvPicPr>
        <p:blipFill>
          <a:blip r:embed="rId1"/>
          <a:stretch/>
        </p:blipFill>
        <p:spPr>
          <a:xfrm>
            <a:off x="195120" y="268200"/>
            <a:ext cx="8498160" cy="1158840"/>
          </a:xfrm>
          <a:prstGeom prst="rect">
            <a:avLst/>
          </a:prstGeom>
          <a:ln w="0">
            <a:noFill/>
          </a:ln>
        </p:spPr>
      </p:pic>
      <p:pic>
        <p:nvPicPr>
          <p:cNvPr id="393" name="Picture 3" descr="Finished!!!.jpg"/>
          <p:cNvPicPr/>
          <p:nvPr/>
        </p:nvPicPr>
        <p:blipFill>
          <a:blip r:embed="rId2"/>
          <a:srcRect l="6251" t="8749" r="35158" b="50002"/>
          <a:stretch/>
        </p:blipFill>
        <p:spPr>
          <a:xfrm>
            <a:off x="2674800" y="3214800"/>
            <a:ext cx="6469200" cy="2846160"/>
          </a:xfrm>
          <a:prstGeom prst="rect">
            <a:avLst/>
          </a:prstGeom>
          <a:ln w="0">
            <a:noFill/>
          </a:ln>
        </p:spPr>
      </p:pic>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Content Placeholder 3" descr="Finished!!!.jpg"/>
          <p:cNvPicPr/>
          <p:nvPr/>
        </p:nvPicPr>
        <p:blipFill>
          <a:blip r:embed="rId1"/>
          <a:srcRect l="12050" t="16724" r="35202" b="51316"/>
          <a:stretch/>
        </p:blipFill>
        <p:spPr>
          <a:xfrm>
            <a:off x="52560" y="214200"/>
            <a:ext cx="8958240" cy="5715000"/>
          </a:xfrm>
          <a:prstGeom prst="rect">
            <a:avLst/>
          </a:prstGeom>
          <a:ln w="0">
            <a:noFill/>
          </a:ln>
        </p:spPr>
      </p:pic>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4100" spc="-1" strike="noStrike">
              <a:solidFill>
                <a:srgbClr val="464646"/>
              </a:solidFill>
              <a:latin typeface="Lucida Sans Unicode"/>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23:38:30Z</dcterms:created>
  <dc:creator>Diocesan School for Girls</dc:creator>
  <dc:description/>
  <dc:language>en-US</dc:language>
  <cp:lastModifiedBy>Diocesan School for Girls</cp:lastModifiedBy>
  <dcterms:modified xsi:type="dcterms:W3CDTF">2009-09-08T02:48:01Z</dcterms:modified>
  <cp:revision>35</cp:revision>
  <dc:subject/>
  <dc:title>Neuschwanstein Castle in Germany!</dc:title>
</cp:coreProperties>
</file>